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hilari2.wav" ContentType="audio/x-wav"/>
  <Override PartName="/ppt/media/cowbell.wav" ContentType="audio/x-wav"/>
  <Override PartName="/ppt/media/RENSCREM.wav" ContentType="audio/x-wav"/>
  <Override PartName="/ppt/media/kiss2.wav" ContentType="audio/x-wav"/>
  <Override PartName="/ppt/media/cartoon3.wav" ContentType="audio/x-wav"/>
  <Override PartName="/ppt/media/cartoon2.wav" ContentType="audio/x-wav"/>
  <Override PartName="/ppt/media/cartoon1.wav" ContentType="audio/x-wav"/>
  <Override PartName="/ppt/media/door1.wav" ContentType="audio/x-wav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AAF6-282C-43BF-A0DB-3B5B287D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FB37-AA7F-4771-92D8-52943F42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78530-BE64-427F-A9E9-DBAD767B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E205F-A24B-4DF2-9322-6003C7EA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FD51-2C24-4499-8B7C-402702BD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9E7A-D10C-4052-8155-48B1DC8E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76D7-F92A-4522-95EC-E669BAE8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F35C-7680-4758-A672-D5171763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9DD2-4F98-4B86-B7B3-3773B7CC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FE05-C22E-425C-985B-90471FA7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9D89-877D-4BE1-BAEC-5E644B67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756A-2308-4416-9403-029A3F71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3CEF-37C1-4969-A8F6-760353BA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6631-BD83-46DE-BF5E-013510EF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4C92-AC67-4818-ACB6-A073C182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6301-4211-4AB7-8126-AF8EC89B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6B22-84F8-4CF1-BFB9-13B243E3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DF80-7A86-4A0F-ADA5-C77105D6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4FD52-7A01-4CD4-B33D-32F4DA4D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ED25-DC8F-4C3E-9A9B-2A5289C3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748F-98A8-41E4-8884-8839401B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F887-5BD1-47EE-B2C4-99B23114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CDB6-5082-4EAA-A390-66373262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ACB2-E6D3-4E9D-A919-8CA95C57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D198-EFE7-452B-85BB-8D8FC1537C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BC9A-2F31-45D8-8064-15E948EE77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or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NSCREM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2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NSCR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review our words.  Watch carefully because they will flash on the screen for just a moment. We will clap as we spell the wor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Type 1</a:t>
            </a:r>
            <a:r>
              <a:rPr b="1" lang="en-US" sz="9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1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Connie Campbell</cp:lastModifiedBy>
  <dcterms:modified xsi:type="dcterms:W3CDTF">2002-05-31T21:57:07Z</dcterms:modified>
  <cp:revision>4</cp:revision>
  <dc:subject/>
  <dc:title>Guess the Covered Word</dc:title>
</cp:coreProperties>
</file>